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62C-AE3D-4431-97AE-12CD4E0B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2B3-CD19-4853-951F-F8DE4E14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0A7-6626-482F-B436-90278180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90C-DE46-4312-9D81-D1FD1CD7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E10D-AEE7-479B-9BE4-3CE64BAC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220E-DCF3-42CC-9231-533F1FC5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F13B-2590-4A6D-A6A5-FC7EC6DE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5FDF-06D8-4334-9DA6-A426D7E6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8E1C-9563-4488-BE79-5C3F65DF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0246-298A-44E7-80F7-B6D55436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8A43-DF08-40AD-BDF4-9D87D240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58D-1A67-42C4-9546-88250476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FF23-87E4-481E-80D8-7411668C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2845-A72F-45AE-9729-D9BDFF40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A2B9-8056-4001-B4D2-DC72C4A5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6920-E543-4464-B4AA-D176146A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007F-A79D-40F3-AD1E-1709C4EC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7FBA1-61D7-4BF5-A085-CFB7D28E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375C-6FDD-47DF-9B8F-685722CB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5BF86-0B7A-46DD-9F51-4ED3AB95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6160C-6FD2-4FD2-B3C1-47DF0BB0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AC386-F4BC-40E4-9CCB-FC1C1CCB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81D-3E10-4F0C-8890-6528AE1E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837AB-F1B6-4FFC-BFAC-7D8E9DD3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B4542-BCE0-4C97-A092-C71B25CF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B136B-C561-48CF-A22F-1506CF43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5A2E8-3601-4006-AC04-B439185C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3260-4AE8-4EF0-8A6F-4E461FA0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E385-377F-4A89-B34C-CD00C03B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B502C-3204-4EB3-9E7B-9846CC7F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61CF2-E8D2-4E75-ADD9-03732F4C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CEAC3-BE9C-4698-AE9F-D5BDDF1D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6AA8F-677F-4BD0-BAD8-E5A2EA0B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CD8-F6FC-426F-AD5D-D1B90D36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FDBDA-35AB-4972-B0CE-849F431B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276D2-957A-47CE-A7EC-AE97C977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E3D16-79E0-4F91-B052-B4B9ABB9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55A0B-40C4-4AAA-8445-A00543AC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02673-24AF-4D8E-AF65-8D12E9A5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60040-6F3E-4ED5-8A51-13FFFCDD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21156-D032-4F1B-9674-9CD42E5B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00583-E755-4199-963A-EB85D369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50244-9444-4CA9-B725-FDBE84DD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A8F1A-86DE-4C8D-A7F8-F2271C7B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102-D8E2-4648-8DA9-3357E756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2EC5A-2840-489C-97D2-BB2C0284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1EC06-6C62-440E-A4D2-AC2D274B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42F27-E1E2-4DDC-8088-8A8367E3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5A45D-60C8-4870-9EC0-74B99064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3557E-561C-47FD-B3DD-834003CF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CCCC7-709D-481F-B21A-1F056682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C6FA6-AD6E-4462-9986-F9AF71C9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24952-05F9-4A96-8C33-691CDD41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14BA5-9FBF-4FD4-A210-ABD6A78D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A7EBE-B711-412B-AD5A-13D0AC75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BF5-2FCF-4D94-9AF3-967371AB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68640-E7AA-4D68-AFBB-C5BCCD2D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DED-5696-4258-8BD1-AFB387A7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ACF-4DD6-47D3-9FF8-E837F512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360-5708-4A84-AEF3-31C1A109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FC0F-2195-40E6-AB6D-A57C8F1C91F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9789-1EA4-4F2B-8BB5-BE2D8A13FCC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9EEC-CFAD-4022-84A2-FA6523E55E4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98D5-52C3-4CBA-9BA8-01E1892E81E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175B-00CF-4CD9-ACFA-D021AB1A184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Hospitality Services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Guarantee Programs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ncondition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sy to underst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eaningfu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sy to invok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sy to colle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6" name="Object 4" descr=""/>
          <p:cNvPicPr/>
          <p:nvPr/>
        </p:nvPicPr>
        <p:blipFill>
          <a:blip r:embed="rId1"/>
          <a:stretch/>
        </p:blipFill>
        <p:spPr>
          <a:xfrm>
            <a:off x="6629400" y="609480"/>
            <a:ext cx="1306440" cy="1371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inciples of Wai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9036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Unoccupied waits seems longer than occupied waits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Anxiety makes the wait seem longer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Waits of uncertain duration seem longer than those of known length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Unexplained waits seem longer than explained waits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Unfair waits seem longer than equitable waits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A solo wait seems longest of al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9" name="Object 4" descr=""/>
          <p:cNvPicPr/>
          <p:nvPr/>
        </p:nvPicPr>
        <p:blipFill>
          <a:blip r:embed="rId1"/>
          <a:stretch/>
        </p:blipFill>
        <p:spPr>
          <a:xfrm>
            <a:off x="6629400" y="144360"/>
            <a:ext cx="2209680" cy="1532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34"/>
          <p:cNvSpPr/>
          <p:nvPr/>
        </p:nvSpPr>
        <p:spPr>
          <a:xfrm>
            <a:off x="1295280" y="380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Times New Roman"/>
              </a:rPr>
              <a:t>Hospitality Marketing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3886200" y="1295280"/>
            <a:ext cx="22860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motional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3657600" y="2133720"/>
            <a:ext cx="2743200" cy="2819160"/>
          </a:xfrm>
          <a:prstGeom prst="ellipse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6172200" y="3124080"/>
            <a:ext cx="9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4724280" y="487692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3124080" y="3276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4800600" y="19810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8"/>
          <p:cNvSpPr/>
          <p:nvPr/>
        </p:nvSpPr>
        <p:spPr>
          <a:xfrm rot="20343600">
            <a:off x="6248160" y="3123720"/>
            <a:ext cx="228600" cy="152640"/>
          </a:xfrm>
          <a:prstGeom prst="flowChartMerg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9"/>
          <p:cNvSpPr/>
          <p:nvPr/>
        </p:nvSpPr>
        <p:spPr>
          <a:xfrm rot="19552200">
            <a:off x="5181120" y="4876560"/>
            <a:ext cx="228600" cy="152280"/>
          </a:xfrm>
          <a:prstGeom prst="flowChartMerg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10"/>
          <p:cNvSpPr/>
          <p:nvPr/>
        </p:nvSpPr>
        <p:spPr>
          <a:xfrm rot="15459000">
            <a:off x="4610160" y="2095200"/>
            <a:ext cx="228600" cy="152280"/>
          </a:xfrm>
          <a:prstGeom prst="flowChartMerg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11"/>
          <p:cNvSpPr/>
          <p:nvPr/>
        </p:nvSpPr>
        <p:spPr>
          <a:xfrm rot="9420600">
            <a:off x="3580560" y="3656880"/>
            <a:ext cx="228600" cy="152280"/>
          </a:xfrm>
          <a:prstGeom prst="flowChartMerg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6019920" y="2057400"/>
            <a:ext cx="2286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6248520" y="4495680"/>
            <a:ext cx="2286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>
            <a:off x="3200400" y="5029200"/>
            <a:ext cx="2286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5"/>
          <p:cNvSpPr/>
          <p:nvPr/>
        </p:nvSpPr>
        <p:spPr>
          <a:xfrm>
            <a:off x="3048120" y="2743200"/>
            <a:ext cx="2286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1066680" y="3200400"/>
            <a:ext cx="2286000" cy="8240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umption of Service, Interaction with Service 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3809880" y="5257800"/>
            <a:ext cx="23623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yer-Seller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uring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6705720" y="327672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est in Compan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qui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4116600" y="25146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5564520" y="25146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21"/>
          <p:cNvSpPr/>
          <p:nvPr/>
        </p:nvSpPr>
        <p:spPr>
          <a:xfrm>
            <a:off x="4192920" y="39625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22"/>
          <p:cNvSpPr/>
          <p:nvPr/>
        </p:nvSpPr>
        <p:spPr>
          <a:xfrm>
            <a:off x="5640480" y="39625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23"/>
          <p:cNvSpPr/>
          <p:nvPr/>
        </p:nvSpPr>
        <p:spPr>
          <a:xfrm>
            <a:off x="7010280" y="1600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Lost 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6705720" y="5181480"/>
            <a:ext cx="17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Lost 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5"/>
          <p:cNvSpPr/>
          <p:nvPr/>
        </p:nvSpPr>
        <p:spPr>
          <a:xfrm flipH="1">
            <a:off x="2819160" y="5029200"/>
            <a:ext cx="190476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26"/>
          <p:cNvSpPr/>
          <p:nvPr/>
        </p:nvSpPr>
        <p:spPr>
          <a:xfrm>
            <a:off x="6477120" y="3657600"/>
            <a:ext cx="380880" cy="1523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27"/>
          <p:cNvSpPr/>
          <p:nvPr/>
        </p:nvSpPr>
        <p:spPr>
          <a:xfrm flipV="1">
            <a:off x="5333040" y="1756800"/>
            <a:ext cx="1599120" cy="29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8"/>
          <p:cNvSpPr/>
          <p:nvPr/>
        </p:nvSpPr>
        <p:spPr>
          <a:xfrm>
            <a:off x="1295280" y="5257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Lost 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29"/>
          <p:cNvSpPr/>
          <p:nvPr/>
        </p:nvSpPr>
        <p:spPr>
          <a:xfrm flipH="1" flipV="1">
            <a:off x="2209680" y="2437920"/>
            <a:ext cx="1371600" cy="838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0"/>
          <p:cNvSpPr/>
          <p:nvPr/>
        </p:nvSpPr>
        <p:spPr>
          <a:xfrm>
            <a:off x="990720" y="1981080"/>
            <a:ext cx="14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Lost 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32"/>
          <p:cNvSpPr/>
          <p:nvPr/>
        </p:nvSpPr>
        <p:spPr>
          <a:xfrm>
            <a:off x="4952880" y="1752480"/>
            <a:ext cx="0" cy="22860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5"/>
          <p:cNvSpPr/>
          <p:nvPr/>
        </p:nvSpPr>
        <p:spPr>
          <a:xfrm>
            <a:off x="3429000" y="32004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36"/>
          <p:cNvSpPr/>
          <p:nvPr/>
        </p:nvSpPr>
        <p:spPr>
          <a:xfrm>
            <a:off x="4724280" y="47242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7"/>
          <p:cNvSpPr/>
          <p:nvPr/>
        </p:nvSpPr>
        <p:spPr>
          <a:xfrm>
            <a:off x="6172200" y="32767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nternal Market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rvice cul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rporate cul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6" name="Picture 8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4724280" y="3276720"/>
            <a:ext cx="3586320" cy="2379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2"/>
          <p:cNvSpPr/>
          <p:nvPr/>
        </p:nvSpPr>
        <p:spPr>
          <a:xfrm>
            <a:off x="4191120" y="53341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9b2d1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3"/>
          <p:cNvSpPr/>
          <p:nvPr/>
        </p:nvSpPr>
        <p:spPr>
          <a:xfrm>
            <a:off x="4191120" y="46483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9b2d1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4191120" y="32767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9b2d1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4191120" y="2590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9b2d1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4191120" y="19051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9b2d1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4191120" y="3962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9b2d1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2819520" y="1219320"/>
            <a:ext cx="3124080" cy="642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 Quality Orientation of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2819520" y="2209680"/>
            <a:ext cx="312408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loyee Satisf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2819520" y="2895480"/>
            <a:ext cx="312408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loyee Ret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2819520" y="4267080"/>
            <a:ext cx="312408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 Satisf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2"/>
          <p:cNvSpPr/>
          <p:nvPr/>
        </p:nvSpPr>
        <p:spPr>
          <a:xfrm>
            <a:off x="2819520" y="3581280"/>
            <a:ext cx="312408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ivery of Servic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2819520" y="4952880"/>
            <a:ext cx="312408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 Ret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2819520" y="5638680"/>
            <a:ext cx="3124080" cy="368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AutoShape 15"/>
          <p:cNvCxnSpPr/>
          <p:nvPr/>
        </p:nvCxnSpPr>
        <p:spPr>
          <a:xfrm flipH="1">
            <a:off x="5942880" y="5866920"/>
            <a:ext cx="61020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cxnSp>
        <p:nvCxnSpPr>
          <p:cNvPr id="371" name="AutoShape 16"/>
          <p:cNvCxnSpPr/>
          <p:nvPr/>
        </p:nvCxnSpPr>
        <p:spPr>
          <a:xfrm flipH="1">
            <a:off x="5942880" y="2390400"/>
            <a:ext cx="61020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2" name="AutoShape 17"/>
          <p:cNvCxnSpPr/>
          <p:nvPr/>
        </p:nvCxnSpPr>
        <p:spPr>
          <a:xfrm flipH="1">
            <a:off x="5942880" y="1541160"/>
            <a:ext cx="61020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73" name="Line 19"/>
          <p:cNvSpPr/>
          <p:nvPr/>
        </p:nvSpPr>
        <p:spPr>
          <a:xfrm>
            <a:off x="6553080" y="1523880"/>
            <a:ext cx="0" cy="4343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1143000" y="380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96464"/>
                </a:solidFill>
                <a:latin typeface="Times New Roman"/>
              </a:rPr>
              <a:t>The Service Profit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finition of Servi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17324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service is an activity or series of activities of more or less intangible nature that normally, but not necessarily, take place in interactions between the customer and service employees and/or physical resources or goods and/or systems of the service provider, which are provided as solutions to customer problem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ervic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angibi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ople as part of the produc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mand patter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rishabi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annel of distribu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Object 4" descr=""/>
          <p:cNvPicPr/>
          <p:nvPr/>
        </p:nvPicPr>
        <p:blipFill>
          <a:blip r:embed="rId1"/>
          <a:stretch/>
        </p:blipFill>
        <p:spPr>
          <a:xfrm>
            <a:off x="5867280" y="4191120"/>
            <a:ext cx="2246400" cy="1162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4"/>
          <p:cNvSpPr/>
          <p:nvPr/>
        </p:nvSpPr>
        <p:spPr>
          <a:xfrm>
            <a:off x="1219320" y="22860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6560" indent="-73656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spitality Service Marketing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2513160" y="1144440"/>
            <a:ext cx="3477960" cy="4876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666880" y="1144440"/>
            <a:ext cx="3370320" cy="42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ERVICE DELIVERY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4541760" y="1800360"/>
            <a:ext cx="428760" cy="1019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2"/>
          <a:stretch/>
        </p:blipFill>
        <p:spPr>
          <a:xfrm>
            <a:off x="4541760" y="3838680"/>
            <a:ext cx="428760" cy="1019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3"/>
          <a:stretch/>
        </p:blipFill>
        <p:spPr>
          <a:xfrm>
            <a:off x="5049720" y="2819520"/>
            <a:ext cx="428760" cy="10191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5991120" y="1217520"/>
            <a:ext cx="31528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OMMUNICATIONS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Marketing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-of-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ual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Operational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lling and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Correspondenc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ne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Directed at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3352680" y="551196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isible to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9"/>
          <p:cNvSpPr/>
          <p:nvPr/>
        </p:nvSpPr>
        <p:spPr>
          <a:xfrm rot="1734600">
            <a:off x="5121000" y="3983040"/>
            <a:ext cx="145800" cy="582480"/>
          </a:xfrm>
          <a:prstGeom prst="upDownArrow">
            <a:avLst>
              <a:gd name="adj1" fmla="val 50000"/>
              <a:gd name="adj2" fmla="val 79531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10"/>
          <p:cNvSpPr/>
          <p:nvPr/>
        </p:nvSpPr>
        <p:spPr>
          <a:xfrm rot="19893000">
            <a:off x="5121000" y="2090520"/>
            <a:ext cx="145800" cy="582480"/>
          </a:xfrm>
          <a:prstGeom prst="upDownArrow">
            <a:avLst>
              <a:gd name="adj1" fmla="val 50000"/>
              <a:gd name="adj2" fmla="val 79531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4686480" y="3036960"/>
            <a:ext cx="145800" cy="582480"/>
          </a:xfrm>
          <a:prstGeom prst="upDownArrow">
            <a:avLst>
              <a:gd name="adj1" fmla="val 50000"/>
              <a:gd name="adj2" fmla="val 79531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4397400" y="2746440"/>
            <a:ext cx="0" cy="123660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4397400" y="2746440"/>
            <a:ext cx="14436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4397400" y="3983040"/>
            <a:ext cx="14436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 flipH="1">
            <a:off x="4033800" y="3402000"/>
            <a:ext cx="363600" cy="0"/>
          </a:xfrm>
          <a:prstGeom prst="line">
            <a:avLst/>
          </a:prstGeom>
          <a:ln w="572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 flipV="1">
            <a:off x="2513160" y="2528640"/>
            <a:ext cx="0" cy="1243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914400" y="2454120"/>
            <a:ext cx="3200400" cy="1371960"/>
          </a:xfrm>
          <a:prstGeom prst="rect">
            <a:avLst/>
          </a:prstGeom>
          <a:solidFill>
            <a:srgbClr val="ccffff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3004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HOSPITALITY OPERATING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004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ack of the Hous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ront of the House          Facilitie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004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e Staff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uest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004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erso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8"/>
          <p:cNvSpPr/>
          <p:nvPr/>
        </p:nvSpPr>
        <p:spPr>
          <a:xfrm flipV="1">
            <a:off x="2513160" y="2746080"/>
            <a:ext cx="0" cy="12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990720" y="2746440"/>
            <a:ext cx="30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990720" y="3048120"/>
            <a:ext cx="30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1"/>
          <p:cNvSpPr/>
          <p:nvPr/>
        </p:nvSpPr>
        <p:spPr>
          <a:xfrm>
            <a:off x="990720" y="3276720"/>
            <a:ext cx="30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2"/>
          <p:cNvSpPr/>
          <p:nvPr/>
        </p:nvSpPr>
        <p:spPr>
          <a:xfrm>
            <a:off x="5991120" y="1144440"/>
            <a:ext cx="3000600" cy="457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1143000" y="4495680"/>
            <a:ext cx="1325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Not General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to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5"/>
          <p:cNvSpPr/>
          <p:nvPr/>
        </p:nvSpPr>
        <p:spPr>
          <a:xfrm flipH="1">
            <a:off x="5638320" y="487692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6"/>
          <p:cNvSpPr/>
          <p:nvPr/>
        </p:nvSpPr>
        <p:spPr>
          <a:xfrm flipH="1">
            <a:off x="5638320" y="51814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7"/>
          <p:cNvSpPr/>
          <p:nvPr/>
        </p:nvSpPr>
        <p:spPr>
          <a:xfrm flipH="1">
            <a:off x="5628960" y="251460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8"/>
          <p:cNvSpPr/>
          <p:nvPr/>
        </p:nvSpPr>
        <p:spPr>
          <a:xfrm flipH="1">
            <a:off x="5628960" y="281952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9"/>
          <p:cNvSpPr/>
          <p:nvPr/>
        </p:nvSpPr>
        <p:spPr>
          <a:xfrm flipH="1">
            <a:off x="5628960" y="3124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30"/>
          <p:cNvSpPr/>
          <p:nvPr/>
        </p:nvSpPr>
        <p:spPr>
          <a:xfrm flipH="1">
            <a:off x="5628960" y="342900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31"/>
          <p:cNvSpPr/>
          <p:nvPr/>
        </p:nvSpPr>
        <p:spPr>
          <a:xfrm flipH="1">
            <a:off x="5628960" y="38098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34"/>
          <p:cNvSpPr/>
          <p:nvPr/>
        </p:nvSpPr>
        <p:spPr>
          <a:xfrm flipH="1">
            <a:off x="5628960" y="44956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rvice Quality Dimens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echnical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terperson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8" name="Object 4" descr=""/>
          <p:cNvPicPr/>
          <p:nvPr/>
        </p:nvPicPr>
        <p:blipFill>
          <a:blip r:embed="rId1"/>
          <a:stretch/>
        </p:blipFill>
        <p:spPr>
          <a:xfrm>
            <a:off x="6172200" y="3276720"/>
            <a:ext cx="1371600" cy="2252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rvice Quality Assessment Crite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17324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Perpetua"/>
              </a:rPr>
              <a:t>Tangib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appearance of physical facilities, equipment, personnel, and communication materia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Perpetua"/>
              </a:rPr>
              <a:t>Reliabi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ability to perform the promised service dependably and accuratel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Perpetua"/>
              </a:rPr>
              <a:t>Responsiven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willingness to help customers and to provide prompt servi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ver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rvice Quality Assessment Crite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732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Perpetua"/>
              </a:rPr>
              <a:t>Tangib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Perpetua"/>
              </a:rPr>
              <a:t>Reliabil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Perpetua"/>
              </a:rPr>
              <a:t>Responsiven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Perpetua"/>
              </a:rPr>
              <a:t>Assura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knowledge and courtesy of employees and their ability to convey trust and confide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Perpetua"/>
              </a:rPr>
              <a:t>Empath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vision of caring, individualized attention to customer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ver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ervice Quality Gap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281600" y="1219320"/>
            <a:ext cx="2035440" cy="703800"/>
          </a:xfrm>
          <a:prstGeom prst="rect">
            <a:avLst/>
          </a:prstGeom>
          <a:noFill/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Times New Roman"/>
              </a:rPr>
              <a:t>Word of M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Times New Roman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4194720" y="1371600"/>
            <a:ext cx="1843560" cy="398880"/>
          </a:xfrm>
          <a:prstGeom prst="rect">
            <a:avLst/>
          </a:prstGeom>
          <a:noFill/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Times New Roman"/>
              </a:rPr>
              <a:t>Person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922440" y="1371600"/>
            <a:ext cx="1927080" cy="398880"/>
          </a:xfrm>
          <a:prstGeom prst="rect">
            <a:avLst/>
          </a:prstGeom>
          <a:noFill/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Times New Roman"/>
              </a:rPr>
              <a:t>Past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118760" y="2133720"/>
            <a:ext cx="2040120" cy="398880"/>
          </a:xfrm>
          <a:prstGeom prst="rect">
            <a:avLst/>
          </a:prstGeom>
          <a:noFill/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Times New Roman"/>
              </a:rPr>
              <a:t>Expect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158720" y="3098880"/>
            <a:ext cx="2094840" cy="398880"/>
          </a:xfrm>
          <a:prstGeom prst="rect">
            <a:avLst/>
          </a:prstGeom>
          <a:noFill/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Times New Roman"/>
              </a:rPr>
              <a:t>Perceiv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4194720" y="3936960"/>
            <a:ext cx="1954800" cy="3988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ervic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3963600" y="4927680"/>
            <a:ext cx="2529360" cy="3988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ervice Quality 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657600" y="5867280"/>
            <a:ext cx="5334120" cy="3988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gmt. Perceptions of Consumer 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7011000" y="3860640"/>
            <a:ext cx="2035440" cy="1008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to Consu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2"/>
          <p:cNvSpPr/>
          <p:nvPr/>
        </p:nvSpPr>
        <p:spPr>
          <a:xfrm>
            <a:off x="1219320" y="36576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3"/>
          <p:cNvSpPr/>
          <p:nvPr/>
        </p:nvSpPr>
        <p:spPr>
          <a:xfrm>
            <a:off x="5029200" y="1752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2209680" y="19810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5"/>
          <p:cNvSpPr/>
          <p:nvPr/>
        </p:nvSpPr>
        <p:spPr>
          <a:xfrm>
            <a:off x="2209680" y="23623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6"/>
          <p:cNvSpPr/>
          <p:nvPr/>
        </p:nvSpPr>
        <p:spPr>
          <a:xfrm>
            <a:off x="7848720" y="1752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7"/>
          <p:cNvSpPr/>
          <p:nvPr/>
        </p:nvSpPr>
        <p:spPr>
          <a:xfrm flipH="1">
            <a:off x="6171840" y="22860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8"/>
          <p:cNvSpPr/>
          <p:nvPr/>
        </p:nvSpPr>
        <p:spPr>
          <a:xfrm flipV="1">
            <a:off x="5029200" y="53337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9"/>
          <p:cNvSpPr/>
          <p:nvPr/>
        </p:nvSpPr>
        <p:spPr>
          <a:xfrm flipV="1">
            <a:off x="5029200" y="43430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20"/>
          <p:cNvSpPr/>
          <p:nvPr/>
        </p:nvSpPr>
        <p:spPr>
          <a:xfrm flipV="1">
            <a:off x="5029200" y="3505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1"/>
          <p:cNvSpPr/>
          <p:nvPr/>
        </p:nvSpPr>
        <p:spPr>
          <a:xfrm>
            <a:off x="6553080" y="51055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22"/>
          <p:cNvSpPr/>
          <p:nvPr/>
        </p:nvSpPr>
        <p:spPr>
          <a:xfrm flipV="1">
            <a:off x="7924680" y="48765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3"/>
          <p:cNvSpPr/>
          <p:nvPr/>
        </p:nvSpPr>
        <p:spPr>
          <a:xfrm flipV="1">
            <a:off x="7848720" y="24382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4"/>
          <p:cNvSpPr/>
          <p:nvPr/>
        </p:nvSpPr>
        <p:spPr>
          <a:xfrm flipH="1">
            <a:off x="624816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5"/>
          <p:cNvSpPr/>
          <p:nvPr/>
        </p:nvSpPr>
        <p:spPr>
          <a:xfrm flipH="1">
            <a:off x="6171840" y="2438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6"/>
          <p:cNvSpPr/>
          <p:nvPr/>
        </p:nvSpPr>
        <p:spPr>
          <a:xfrm>
            <a:off x="4495680" y="2514600"/>
            <a:ext cx="0" cy="6094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7"/>
          <p:cNvSpPr/>
          <p:nvPr/>
        </p:nvSpPr>
        <p:spPr>
          <a:xfrm>
            <a:off x="4495680" y="4343400"/>
            <a:ext cx="0" cy="5335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8"/>
          <p:cNvSpPr/>
          <p:nvPr/>
        </p:nvSpPr>
        <p:spPr>
          <a:xfrm>
            <a:off x="4495680" y="5334120"/>
            <a:ext cx="0" cy="53316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9"/>
          <p:cNvSpPr/>
          <p:nvPr/>
        </p:nvSpPr>
        <p:spPr>
          <a:xfrm>
            <a:off x="6172200" y="4191120"/>
            <a:ext cx="9144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30"/>
          <p:cNvSpPr/>
          <p:nvPr/>
        </p:nvSpPr>
        <p:spPr>
          <a:xfrm flipH="1">
            <a:off x="2971440" y="2514600"/>
            <a:ext cx="1143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31"/>
          <p:cNvSpPr/>
          <p:nvPr/>
        </p:nvSpPr>
        <p:spPr>
          <a:xfrm>
            <a:off x="2971800" y="2514600"/>
            <a:ext cx="0" cy="35053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32"/>
          <p:cNvSpPr/>
          <p:nvPr/>
        </p:nvSpPr>
        <p:spPr>
          <a:xfrm>
            <a:off x="2971800" y="60199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3"/>
          <p:cNvSpPr/>
          <p:nvPr/>
        </p:nvSpPr>
        <p:spPr>
          <a:xfrm>
            <a:off x="987120" y="504360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is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4"/>
          <p:cNvSpPr/>
          <p:nvPr/>
        </p:nvSpPr>
        <p:spPr>
          <a:xfrm>
            <a:off x="2895480" y="54338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5"/>
          <p:cNvSpPr/>
          <p:nvPr/>
        </p:nvSpPr>
        <p:spPr>
          <a:xfrm>
            <a:off x="3045960" y="434340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6"/>
          <p:cNvSpPr/>
          <p:nvPr/>
        </p:nvSpPr>
        <p:spPr>
          <a:xfrm>
            <a:off x="5330520" y="432756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verprom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3047040" y="25909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8"/>
          <p:cNvSpPr/>
          <p:nvPr/>
        </p:nvSpPr>
        <p:spPr>
          <a:xfrm>
            <a:off x="1295280" y="37339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Mark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9"/>
          <p:cNvSpPr/>
          <p:nvPr/>
        </p:nvSpPr>
        <p:spPr>
          <a:xfrm>
            <a:off x="1203480" y="32148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Cost of Qualit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Perpetua"/>
              </a:rPr>
              <a:t>Good cost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preven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Perpetua"/>
              </a:rPr>
              <a:t>Bad cost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spection and corr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Perpetua"/>
              </a:rPr>
              <a:t>Ugly cost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defects and unsatisfied gues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-10-100 ru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3" name="Object 5" descr=""/>
          <p:cNvPicPr/>
          <p:nvPr/>
        </p:nvPicPr>
        <p:blipFill>
          <a:blip r:embed="rId1"/>
          <a:stretch/>
        </p:blipFill>
        <p:spPr>
          <a:xfrm>
            <a:off x="6019920" y="4114800"/>
            <a:ext cx="1676160" cy="16668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3:40:50Z</dcterms:created>
  <dc:creator>Sun</dc:creator>
  <dc:description/>
  <dc:language>en-US</dc:language>
  <cp:lastModifiedBy>robert</cp:lastModifiedBy>
  <cp:lastPrinted>2000-01-17T04:09:54Z</cp:lastPrinted>
  <dcterms:modified xsi:type="dcterms:W3CDTF">2011-04-11T08:56:46Z</dcterms:modified>
  <cp:revision>15</cp:revision>
  <dc:subject/>
  <dc:title>Nature of Services</dc:title>
</cp:coreProperties>
</file>